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3D5833-7F5D-43F9-8ACE-50FE0598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31AF4E-7669-44A4-92A4-24296797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F58095-08D8-47D9-BA68-BB252F43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7C7B76-3F9E-4210-A3DE-0BBA92EA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n use Similar to IS-A within ontology, but do not inheri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BF29B2-0FE5-4705-B01A-94132446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6ABE62-F78B-4C3E-A13A-556F2F82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941F1F-4DAD-4D39-A63B-5B1037D9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33C601-0C97-4C8B-B7C1-47F842A44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357F3C-36AA-401A-B514-08B89B52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5D65F8-5B16-4242-85BC-93BB1154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C147B3-14C1-427D-AD8E-D1EE8228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ustomers can assimilate at most one “big thing”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oriented architectures have been anointed, and suck the oxygen from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oom for Sem-Web in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87318F-B7D0-4464-A94C-ED8F7389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D00C1B-535B-4903-B35C-57DA0E8B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are mapped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bject correspondences,(Match, Derive attrib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 instance-set mapping  (M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C3B801-A018-4B5D-8D0E-90AF43CC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75C619-AC2C-4780-BA6A-8F1AFBDF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C85E7F-4984-4516-98AF-1931F8C9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(e.g. Castano et. al., TO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and display convenience mea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mewhe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ystem, you’ll have something record-oriented. So you need to sell that a second formalism is worth introdu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E7C2F2-581B-4BAD-8D8D-0702B38B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 Castano et. al., T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3174-203D-4860-AC5E-ECA737277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EF22-ABCB-410A-9690-83655CC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2730-2014-4EC9-998F-7AAB5BF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189D-E2E5-47B0-B84C-1E9E7371E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901F-0FDB-420C-B2E8-BD9425CC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EEDC-0B01-47AB-879F-440C4F69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D38FC-1922-4ECF-8988-B71DAFB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9BCB-082A-4435-8D05-A4E8B80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C6035-C43E-4320-B92F-A4774F5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3D1C-99EB-49B1-A3B4-B76ABE0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06A6-5A5B-46CE-92BB-47034AA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E122-4EA6-49F1-A49A-1D4BB90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D70FA-3934-4218-86C5-DA28514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08DC-90F7-45C6-B6BB-F73D85F4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38993-C1E6-44E4-9E46-4995532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51CF-C934-463C-9E62-9E974C34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289D6-C9CD-4741-ACC9-97C1F6FE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A8E7-ED7D-4A25-BEDD-21F109C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BDD0-D326-46CE-BA66-5A54E37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C7DB-C3A8-461C-B665-E92024CF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6B39-6538-45FD-98C2-718D2C11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FF38-434C-4911-97FB-F7795F4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F029-B91E-40C8-B442-384EC40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7AB9-4F75-4AC9-A21A-8478699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EEF5-BDE8-4AD7-AC71-038BF162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533520" y="1600200"/>
            <a:ext cx="81928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8043840" y="631836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6493680" y="6513480"/>
            <a:ext cx="25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The MITRE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BE12-488B-49BB-834A-C8DB59A7C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521-512E-4241-84CD-ACAA06EC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sting typical SW and DB approaches to semantic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n Ros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0F3-5ED8-4784-BD5F-A310245E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002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WL has both theory and tool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ecute by inference eng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t tuned to query processor 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22093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Homegrown lo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Even simple Datalogs won’t inter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200"/>
            </a:b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appings are in popular query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Efficien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: parallel, query optim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Deployable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e.g., change 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00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                            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2AA-BFA5-44AF-8E59-8FA6DDF1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Usable_f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l’ships use formalism very similar to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S-A is “native”, i.e., part of the regula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-A logically merges the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WL is insufficient,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ule languages over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{informal or formal logic assrtns.} or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ore powerful (data exchange logic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ology: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 TGD =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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  <a:cs typeface="Arial"/>
              </a:rPr>
              <a:t>ש</a:t>
            </a:r>
            <a:r>
              <a:rPr b="0" lang="ar-SA" sz="2000" spc="-1" strike="noStrike">
                <a:solidFill>
                  <a:srgbClr val="ff0066"/>
                </a:solidFill>
                <a:latin typeface="Arial"/>
                <a:cs typeface="Arial"/>
              </a:rPr>
              <a:t>څ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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View defns are big: hard to edit (and to re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414-EC67-4583-99D8-77F159D9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ever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engine infer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s this tolerable? Why (no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2285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ined from user viewpoint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rd to learn or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scards tuples unnecessar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B48-0C19-48AD-BD23-D89EDCB59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le for”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formalism can be used to describe either systems or domai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ble_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rectional, to relate concepts that are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_for does not force inheritance – one system may have fewer attrib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ey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Formalis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tandard construct for “can be used for” super-property ≈ tuple-generating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rect or via neutral model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and match, share info and infer ove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Execution environment: DBM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, query optimization,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ilingual (SQL, XML), add RDF when it reaches critical mass ($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3E54-86C0-45AF-9BA7-68626E498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Alignment” research is hard t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picuous lack of widely-used products, from eith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ers/matchers automat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ork of an integration engineer, but c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+%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lve a major “customer”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a robust mediator, there aint no customer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7EC-B7C7-4ECB-8FDA-75CB893B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685800" y="5029200"/>
            <a:ext cx="807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Touch the end users,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one outside the IT d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 in their work as schemas ev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de for end users 80%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unities addressing simila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ndards, cleaner formalism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e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gmatics and richer suites on the d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ly formalism independent, could be imported, esp. “Instant grat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2B3-B0CA-4F65-8258-7A49B8D1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versions of a comm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matching ≈ Align classes/properties in ont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a-models, similar core proble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eith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omai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chemas (for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omain model and one sche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 Identify the relationship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instance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, IS-A, “usable for” seem the main ones helpful to a “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y need to transform to make things ma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1069-900E-4C71-A68C-CFF440A5A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des have elaps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base side:  Survey of schema matching research (Batini et. al., 198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schema may be constructed from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sioned end product is a SQL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is on “where can we find clues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m-Web precursors:  ISI, MCC – domain model (in logic) plus articulation axi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within the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ing-based. Each project had its own formal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Obvious question: Why no robust products ye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171-2B44-4EB2-9A49-F47384858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ping ahead to my conclusions (SW competi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nterprise systems today, lean toward DB and XML tool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9900"/>
                </a:solidFill>
                <a:latin typeface="Arial"/>
              </a:rPr>
              <a:t>unless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 you really exploit ontologies’ greater expressive power (value taxonomies, IS-A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uring sem-web environments will (by definition) import knowledge from big data integration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0BB-DDBF-4C21-8CDE-B8241225C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7EB-1978-4616-A03C-822DB6D5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spondence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form approaches (can be multi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19320" y="2743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467480" y="2666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905120" y="3200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295280" y="5029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543800" y="4952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962520" y="510552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98108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5627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5CA-7CAA-44CE-AA98-DB3C00DC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work – not associated with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o use when creating? describ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loud"/>
          <p:cNvSpPr/>
          <p:nvPr/>
        </p:nvSpPr>
        <p:spPr>
          <a:xfrm>
            <a:off x="3276720" y="32004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800600" y="464832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114800" y="38862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loud"/>
          <p:cNvSpPr/>
          <p:nvPr/>
        </p:nvSpPr>
        <p:spPr>
          <a:xfrm>
            <a:off x="3276720" y="495288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800600" y="34290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5715000" y="4343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505320" y="411480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0CB-E408-48FE-8793-E20447B41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 (e.g.., P2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eutral intermediary to connect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4191120" y="464832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191120" y="3505320"/>
            <a:ext cx="609480" cy="4572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105520" y="44197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429000" y="4114800"/>
            <a:ext cx="76320" cy="99072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276720" y="32767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191120" y="3962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276720" y="5105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23D4-C7A6-4D26-B339-C14CB0123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atomic concept (object or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chunks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easy to relate &amp;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bust for multiple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1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relation or tre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cord is a good chunk for storage 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ts are present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ystem or a physical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2955-06D1-4C01-89B8-F55B21B87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via neutral def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use is easie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ll administrators  understand “foreign” or abstract concept def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relationships and flows betwee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stant gratification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funding is usually for an applic’n, not for integrat’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fferences i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eal dat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lead to improv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Tools examine th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billion indust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ature-rich, scalabl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8:24:07Z</dcterms:created>
  <dc:creator>Arnon Rosenthal, Len Seligman</dc:creator>
  <dc:description/>
  <dc:language>en-US</dc:language>
  <cp:lastModifiedBy>Arnon Rosenthal</cp:lastModifiedBy>
  <cp:lastPrinted>2003-02-26T12:46:23Z</cp:lastPrinted>
  <dcterms:modified xsi:type="dcterms:W3CDTF">2008-06-10T22:42:16Z</dcterms:modified>
  <cp:revision>146</cp:revision>
  <dc:subject/>
  <dc:title>Pragmatics of Applying (Data Exchange)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5303894</vt:r8>
  </property>
  <property fmtid="{D5CDD505-2E9C-101B-9397-08002B2CF9AE}" pid="3" name="_AuthorEmail">
    <vt:lpwstr>arnie@mitre.org</vt:lpwstr>
  </property>
  <property fmtid="{D5CDD505-2E9C-101B-9397-08002B2CF9AE}" pid="4" name="_AuthorEmailDisplayName">
    <vt:lpwstr>Rosenthal, Arnon S.</vt:lpwstr>
  </property>
  <property fmtid="{D5CDD505-2E9C-101B-9397-08002B2CF9AE}" pid="5" name="_EmailSubject">
    <vt:lpwstr>presentations from Cambridge SW meeting?</vt:lpwstr>
  </property>
  <property fmtid="{D5CDD505-2E9C-101B-9397-08002B2CF9AE}" pid="6" name="_NewReviewCycle">
    <vt:lpwstr/>
  </property>
</Properties>
</file>